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069-2AD3-4363-B82C-48A81EA5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4F2-A42D-47EF-BA69-CBF439DE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ED7-8B52-46B1-8919-BD88CF9F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FE1-3C2C-42B0-8492-25700627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78EF-089B-4228-9697-B4A4BB03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F12C-CC14-48EE-8D6F-7991FE3C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9070-7E34-44F5-8FB4-84AC1A61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5915-CD43-4C80-8A29-DCB651F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20FA-6E9D-4939-9DB4-D1A24C12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81B8-BF94-4C74-91CA-66FC42A0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4BEC-F8DD-46D5-8719-EC0FC49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CFD-3317-425E-9D03-755DD82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F0F3-7892-4B9A-A665-77BF7EAB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87B4-D97F-4384-AA4D-C468020A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589A-1BFA-4045-AEDD-0007300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0FAF-D5BF-4938-B89E-0A3074BD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0F72-4DB8-4860-B30C-D6B9BB34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BA2C-9175-4EAE-A37C-6B689990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0414-228A-4217-8B90-95D424E9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ED06-12F4-4384-A45D-8A288313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2CFFA-EA2F-4FFD-BFE0-66C7479A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8444-97B2-428C-9288-3748354E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D92-54A2-41FD-B9FD-12B4C10F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D192-FBA3-4DB9-80B8-FB6DC9F7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5AC7-08F4-47EF-94D6-0D619CA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9C8A-24C4-4361-B15A-020726AD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4FE6-F285-4274-8953-0D39E0FC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3DCE-4174-4AA1-80C9-ACA77B6B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E8E7-65D2-4348-9CFF-F44F8B21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DE7D-F0E4-459F-A967-A0C511C4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4EB26-11CB-4111-AD69-318C9B3A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CF56-A730-4213-AAED-BA47C341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D74C1-97E9-4E81-9AA1-A00FA885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F98-8256-497A-8D2E-F038BEE5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FB99-476F-48D6-AFA4-B65B5F44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F154-ADFA-4CAB-A913-843266CB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F1E3-D84C-48B0-BBE9-C0A89CBC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5F85-5B13-4D3C-9898-A7F18565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7623-6571-4B97-943B-AD280AF0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556E7-18C2-4789-ABB0-BA46E328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93F7-228D-43AD-8FC5-DDAECDB8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EF08-07B9-4DF7-8C6C-8EDD4180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B97B-941F-4C33-A0AB-BD2833E3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794D7-413E-4018-B78B-9CECCFF5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100-F2EE-49E7-B2E1-1006AC97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452B-65B9-460A-AEFB-CCD9112A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03912-148C-495A-AFEE-545C1898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757F3-D4B0-45C4-8367-BF8F3DBF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7AA0D-64E8-4F8A-8D49-395A54F3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B8707-C584-4946-86FC-B779FEBC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B9C48-3FEC-4553-B0D3-FE6E6B3D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24928-E3E8-46CE-9DFC-6E389F98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503F8-EFC3-4BC6-84E6-B3305699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3C330-160B-4848-AD5E-6C9F153A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D5B0B-997E-45B7-9D26-3FF3378B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5BA-8B2C-48A1-9CD9-503C746A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E2D21-E69B-4C0C-BBD9-6277543D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435FE-8CAE-4782-B640-0E4DAC24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4CBA4-242E-4F4D-8C94-7558C414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6A4AB-FD90-4EE0-9844-764A377C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82D8D-7CE0-489D-8EE5-8CF69CD3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4FBB2-4DC7-42DF-AEF3-F3498062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F0C54-9DCE-44D3-8E6A-9536BBF4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DF0D1-96D0-44EC-AF2B-A3153D04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15B6A-DE82-44C3-BD4B-E4D0181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FBD7D-584E-42CC-8B08-DB0D1D93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98F-8A51-4103-BBA8-EAE4BC63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E6451-2441-43E8-9E40-CD64CADA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51473-CA4D-4CE7-97EF-6AB999C3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FEEC2-8866-4BEF-A173-80CD9611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F819C-F9E1-43AE-8609-9173AB02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72372-CC34-4892-AD25-9C9AB3E3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1A10-1566-46BC-8CA6-0FFCF1C7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7F81C-C5BD-4A97-BFD1-5A011181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06BBB-4D06-426C-87AE-4D71A553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4438F-5A1F-4E51-8150-435CB032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2F4A2-6979-4A1F-BC2C-C6FA685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40A-5F97-400A-ACA6-B395E797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769E8-4234-4FBD-AB04-B830A9A7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148E8-143F-4E8B-82D4-E5CBA56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59F27-D050-4B4B-A878-CD314EC3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F1838-B70D-4256-93F4-50DFA34B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354FE-728D-4884-9561-E2187D71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993-B850-4A52-B957-4124D71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727A-2384-411F-BAD5-025B4A09A81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07E8-F10C-4DE4-B2FF-DE680BB3489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CB97-394E-44E3-B83D-A6E62246157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9655-3E83-40DC-8125-73AA931EDE7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D840-9D19-4F50-BCB5-68AFD73858D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8CD-A129-4666-9328-D01D7831099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554D-97D1-40C9-8604-39C338318B1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ptv.org/digital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46144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illiam T. Hay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irector of Engineer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owa Public Televis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a converter box look like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Content Placeholder 3" descr="IMG_0023.JPG"/>
          <p:cNvPicPr/>
          <p:nvPr/>
        </p:nvPicPr>
        <p:blipFill>
          <a:blip r:embed="rId1"/>
          <a:stretch/>
        </p:blipFill>
        <p:spPr>
          <a:xfrm>
            <a:off x="1782720" y="1806480"/>
            <a:ext cx="60357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’s Happening in the TV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Content Placeholder 5" descr="Television Block Diagram.jpg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ypical Television Hook u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Content Placeholder 3" descr="Antenna to TV.jpg"/>
          <p:cNvPicPr/>
          <p:nvPr/>
        </p:nvPicPr>
        <p:blipFill>
          <a:blip r:embed="rId1"/>
          <a:stretch/>
        </p:blipFill>
        <p:spPr>
          <a:xfrm>
            <a:off x="933480" y="1600200"/>
            <a:ext cx="7602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ypical Television w/Convert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Content Placeholder 3" descr="Antenna to Converter to TV.jpg"/>
          <p:cNvPicPr/>
          <p:nvPr/>
        </p:nvPicPr>
        <p:blipFill>
          <a:blip r:embed="rId1"/>
          <a:stretch/>
        </p:blipFill>
        <p:spPr>
          <a:xfrm>
            <a:off x="1092240" y="1981080"/>
            <a:ext cx="7443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How does a converter box hook up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Content Placeholder 3" descr="IMG_0011.JPG"/>
          <p:cNvPicPr/>
          <p:nvPr/>
        </p:nvPicPr>
        <p:blipFill>
          <a:blip r:embed="rId1"/>
          <a:stretch/>
        </p:blipFill>
        <p:spPr>
          <a:xfrm>
            <a:off x="1782720" y="1806480"/>
            <a:ext cx="6035760" cy="45277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l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http://www.iptv.org/digital/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ho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515-242-310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800-532-129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i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.O. Box 645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Johnston, IA 50131-645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is Digital Television (DTV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is the replacement for analog television, the TV we’ve been watching for the last 70 yea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uses the same channels but in a different wa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50880" indent="-2512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nalog receivers cannot understand digital signal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50880" indent="-25128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ome DTV receivers can understand analog signal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 February 18, 2009 analog will be shut off and only digital will remai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do you receive TV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ver the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DTV mean to cable viewers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ble has been mandated to either provide all of its users the ability to receive local digital television 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vert the local digital television stations to analog and supply that to subscribe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DTV mean to over the air viewers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ver the air viewers must do something or they will lose all service on February 18, 2009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can over the air viewers do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 can buy all new televisions that have digital receivers 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 can buy a TV converter box that have digital receivers but convert the digital signals to analog for presentation on existing analog televisio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a converter box look like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Digital Converter 1.jpg"/>
          <p:cNvPicPr/>
          <p:nvPr/>
        </p:nvPicPr>
        <p:blipFill>
          <a:blip r:embed="rId1"/>
          <a:stretch/>
        </p:blipFill>
        <p:spPr>
          <a:xfrm>
            <a:off x="1511280" y="2198520"/>
            <a:ext cx="6578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a converter box look like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Content Placeholder 3" descr="jasco_ge_converter_box_pg6.jpg"/>
          <p:cNvPicPr/>
          <p:nvPr/>
        </p:nvPicPr>
        <p:blipFill>
          <a:blip r:embed="rId1"/>
          <a:stretch/>
        </p:blipFill>
        <p:spPr>
          <a:xfrm>
            <a:off x="1257480" y="1676520"/>
            <a:ext cx="6797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does a converter box look like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Content Placeholder 3" descr="IMG_0016.JPG"/>
          <p:cNvPicPr/>
          <p:nvPr/>
        </p:nvPicPr>
        <p:blipFill>
          <a:blip r:embed="rId1"/>
          <a:stretch/>
        </p:blipFill>
        <p:spPr>
          <a:xfrm>
            <a:off x="1782720" y="1806480"/>
            <a:ext cx="60357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22:02:31Z</dcterms:created>
  <dc:creator>William T. Hayes</dc:creator>
  <dc:description/>
  <dc:language>en-US</dc:language>
  <cp:lastModifiedBy>William T. Hayes</cp:lastModifiedBy>
  <dcterms:modified xsi:type="dcterms:W3CDTF">2008-03-28T15:05:37Z</dcterms:modified>
  <cp:revision>14</cp:revision>
  <dc:subject/>
  <dc:title>What the digital television transition means.</dc:title>
</cp:coreProperties>
</file>